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3BE-AECA-450E-9058-455D638F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264-0333-4DDA-9E73-BB20B7F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3870-E083-4125-AB99-EF3EA0EF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CBA5-F2F9-4CB2-88A7-4E80C4D9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F4062-EF1A-400B-A9E1-E2572966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B6EF6-6CDF-4E97-889A-B1125B0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D1DB-237E-4703-BDFE-3BF71BD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0CD0-FF78-4D34-8846-CFD507ED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7710B-E045-41AF-B334-E995C8D7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3F0A-679C-42F2-A9F1-69D2B0ED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3072B-1EA2-49DB-A5DE-33EAD1D9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E5089-E735-40FF-8211-87EFA57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4AC-3F1D-462B-83AA-2340353C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3515B-17CA-446F-B2BF-1F66267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B6B80-B912-4350-9C58-D6E3566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0F70A-FF5C-4913-9A71-09CEFF70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758AB-C57A-4B22-853D-11A081A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8223B-20D6-4AF5-B90B-486BDC5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784B7-0F2C-46EF-B705-1B9BA99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45D6-1E40-4D8A-B730-E9716EF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C951B-94A5-48BF-81BB-A5AF009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03584-6068-420D-BD8A-E836976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A00F8-5223-40E9-A014-1722B91C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5A9-2DBF-4CF2-B851-0794EE41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10EDF-8FB7-430B-9849-1A080433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3AD7C-2CEE-4A12-9804-D174C29F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DD3BA-46A3-470A-B08E-F5F6857F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8F0B-C5DE-4030-A355-23552658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FFA3F-7A94-471C-8EB8-FAC844B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453D8-E90E-4088-AE67-2696912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8CF0B-A7CC-4BC5-8628-35A7DA5C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338FD-FFF7-41E8-BFBF-752A1B6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457E-2BBF-41FC-87E1-8AE50FB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12682-85AD-4D1D-8C7D-7BF1F3B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C9FF-531D-4C42-AD39-8D12CAE6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91414-46DB-4688-B348-D84D5FC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286EF-F0F0-40E1-9565-1A4B09B5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7F27-6D94-4211-A93E-3474115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F1E1E-45A1-454E-A359-4F0CB45C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D556F-8100-4AB1-A44E-DE5C1FAD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D4FE8-17BC-427E-9DE6-CB9F643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9954B-F7F8-43DC-A97B-3AC89D4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FF3E3-D855-4A46-8306-A595B7F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51703-8005-44D1-B6AB-D7EC360F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8C08A-64F8-4B49-85CE-479AEB6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F75-5DB7-44A5-96FE-353AC52D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20D1-ACFF-4FD7-8315-13AA3DD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AAFF1-7EBC-4684-9727-D003262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8B7C3-7F9B-479B-A0C9-18A77EC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1917E-0439-464E-995C-C73854C1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95F04-4585-4B38-9D88-938EFBFA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1C027-DC23-4DDF-8A21-9B28C967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1E774-C795-4673-BB35-8D6E43C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88522-0560-4371-BBC0-7B9FCFA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9F6B1-9E95-41B1-A072-0B89F3F2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8AA4B-1009-4261-A3EB-6923640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4C90-F36C-4863-AF7C-171DFB8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2A192-973B-425C-A5FA-859C82C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E9352-75AB-49DC-A0D7-25F8758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818FE-D45B-4450-BF5B-EED4FDF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DDCC1-6B3D-4B3C-B650-AA36726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38EBC-5EF8-4CF8-8B0D-42601B1D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08DE2-1790-4CA2-A719-A1E52359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521BF-DC31-4AE9-A7B8-EF89144A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C8604-184E-4B07-A006-CB44F289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CF017-E023-432B-83B1-B8C3534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F345B-E131-4A59-9D04-6787F06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9D9E-FE81-4005-8687-928E7680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9AC24-090D-4337-88CA-02C6638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0C17A-E35D-4B23-9DE9-B8422FC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2A616-D509-4219-B848-268FE9F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535F6-3C00-4ECB-A665-60E122F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AE35C-3073-4A92-B123-A85B3207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194C1-B356-4FD2-AEE9-86624C4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81F64-AB0E-4093-8FF9-6BF8504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8A886-4A25-4DDE-8A2F-DB56215F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FA15C-10B9-4E7C-9BDE-73188A49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60D27-EC11-404F-9C3F-F70B9929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6C39-841E-4447-9971-169E5CF2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985D0-61FC-4D28-B619-A07A32B2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0F9AD-91FE-4E6A-9928-D7DC6555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DAAF5-7419-4477-B7E9-B4F70BE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FD0DA-7ABA-4C49-9539-A0CA2D3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265A2-9EFA-4AB4-B40B-F01971B4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32AE6-CB27-4DC4-B28B-E262CF5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54E79-2FC5-45B4-A36C-7FDD4BB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828E0-4F04-4AA6-AE15-FC63566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B5971-010B-4F3F-AB09-64034D6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329DF-DABD-4CE8-BD48-4446F58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4028-27BB-4C89-AC08-15CB1339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F8408-5FCE-4F62-BB60-59371A8E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FB6AF-46AB-40EE-BE08-C80082E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DFB68-CBDF-462E-B8C1-F65389AB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A2BF1-6DEA-42E2-B766-1EA40B13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EF003-A610-4EAB-B7C8-22CEB97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E8443-2F31-40A8-A064-6D12D94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D9952-6FAC-405F-8495-E5FD2B51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D92C1-8C67-4F84-BF69-2B9B303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7290B-DD84-4D57-ADED-1192ABB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94F88-E3F1-4FC4-A267-787061D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77B-3270-4674-A6EA-BBDB9AE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02DD7-3181-45F2-9E23-E2ACFF32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3018D-9029-4266-A2B5-E1A07D5E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5D186-7616-497A-A4B2-A5EFE81F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B51A4-9986-4240-9D62-FCC7CF01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CF802-82C8-4A39-BA24-FD9D7D5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0066F-DC09-4F61-8546-14B2CFF6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35250-EADB-4C6B-A23E-DAC06D81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7C346-454C-441C-A52A-2356DF88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D5E42-A77B-4D29-87FD-20EABD5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24F24-BEF7-454D-ADB2-EC39CEF5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C8A-3775-44EB-AF57-ACDEF3C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1D1E-AF41-4E1E-802D-123BD20E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CC76C-032D-4916-A8AF-5C75830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80D03-C24D-4D3E-AAAE-5899FFB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8A2A9-3471-4E94-9E6E-DEB23A3E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9D260-9590-4FD6-828C-B36B250F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07606-9074-4FE6-8B8A-B0A6645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A58B4-896C-4D0F-BFF8-8A25CA6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3B0B8-DB94-4878-BB3B-9C973C9A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CC18B-5C1B-4466-873B-24B4F13C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AD527-E360-4C60-8AD8-CCBD205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64A46-F22C-43F2-A08C-282B8651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2B48-AC98-4804-AF26-583DBFF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94BF7-ACBD-447F-B36E-0F87FCA9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60148-4AF9-4831-A0CB-E9EDB52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BF24F-E142-442D-856E-31FC2FF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92D02-C237-4FAE-B6F2-4ACB9FD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6C149-739A-467F-BAA4-9DD4CF0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3E5A4-A25E-4C4F-A2D6-1C0B20C5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28A93-B79D-4A08-BFA5-2DA01B18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B36B2-B277-4A86-AC84-6B37C0D5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874B5-B621-429A-A8F3-5A542D1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BDF48-03D4-4A53-B0A6-23249ED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CBB-8F21-4F74-893C-2A184EBE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BC256-67BB-4EC4-948F-725D52D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1C347-4246-40AC-A458-DF45CFA5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83908-8A23-40CC-9F2D-0DBBF242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42CE5-E5BE-426D-AFD6-B58E039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42D0E-0897-4924-B4A3-7F91995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43A15-5ECD-4D01-A9D5-7F5923B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06016-E577-45A8-BFE7-5010BF6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81095-A719-4031-B886-65056C82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8C381-6AE6-4340-8079-F34394FA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53198-A5D4-4193-AB84-8BFF8185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299F-C8AF-41FA-903F-24FDBD9B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A1031-55D9-49B3-9534-6BB40FD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120C9-26B7-4F15-915D-BAC3978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B530A-200D-46C6-BB67-A0778E95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997F1-E9FA-48AD-BD0A-EF2F0D9D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1C54F-56EA-462F-A56D-4E757400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FE520-149C-4896-A961-DF95E31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12B3D-F1EC-4A08-880D-4EF1EAB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BC24D6-5963-4214-8F14-A266EEB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0135D-489B-4EE5-951D-C8D1906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08E78-2540-4844-B491-159D27DA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20C8-5E9B-4195-AEFD-A26A223F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42A5C-4AD7-41DB-96E8-C34FD1D2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22F35-EDA2-45CB-940C-4E3049AF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5AC8B-2B6C-4DFF-9CED-BD26DE4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B165F-FEA0-4A99-8743-A2DE744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534A9A-B0AB-42A9-B823-69DE6649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B19DD-88CB-46CD-960E-6E6D57A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D0F09-E2D8-4DD4-844F-272785D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277DC-772E-4A08-BAF6-4063FBC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96875-747C-4C05-9C44-617D407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D4619-7CBA-4065-AB86-EDB6CC2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976D-97D1-47EC-88E0-D929F8BE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4E356-3A36-429A-94B2-EE769EDB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52C30-1007-4CF9-8268-F361E4EE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922F2-EB85-426E-99F3-4FA623B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181F-DEB6-46AB-846D-A2D347A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C0F1-F622-4670-8C4A-7724FA8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A423-51B5-4143-8B5D-866E1322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6037-47F5-46C0-9560-15F863B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1EE-0D7D-4F65-8604-D452CFC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6FD7-590F-4B24-B82E-E6E9FCE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206D-B5E5-4587-B1B3-71361E8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7097-586B-44E7-BDC4-8DA8D13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9C6E-D5B1-4598-A542-4B6EFA7D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4297-6FFD-49D3-9989-1B9DC4C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A58B-6112-4CEA-AB9D-22BA4E75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DF2D-67A9-4C48-82CD-20D551E9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3D23-FE02-4F67-B479-5AA1C239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0812-9BE2-4D79-9787-360F324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1FFE-716A-4D69-A61A-BC26B20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4A5-5397-4B8C-80B4-9F6E51F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F13D-466D-4A04-A757-1174DB23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D198-7994-425E-A280-0631342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0131-3535-449A-A0B5-AF3D07F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477D-BDBB-4875-B9D4-548E611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C49B-F797-41E0-9B4F-82EF754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91A1-0C6E-444D-AF3C-10EAEB4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940EC-FEDB-494E-89B1-E271707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3419-3DE9-4832-94F2-2C90A6FC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EDFB-F5A4-439E-BFCF-1F4524D7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D086-67DD-40B0-AA9C-797D9AF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242-1300-4AAD-B501-0B00E785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0F055-6458-425C-A606-528DB5C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C27E-391F-4DF6-99B1-2F56B5D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E9AC-0268-4454-9C30-AFBE70DB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B309-0D00-48AB-BB8E-E95FBBA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DA112-D56D-4738-B6C1-449D101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42DC3-A9F1-4B72-BAFB-87B7948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6F232-06E1-4747-9815-EADF562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6A45D-4CA2-4FC3-AFF5-ECB540B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CBB7-799B-4363-9741-E341F5B3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BFE77-9ECC-4225-9335-F0713E3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009-1A22-4077-B0B7-7AEEC16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2AB5-0537-4C7E-B127-7FB9C715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345A-089B-4D73-93E5-52DB0859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A18A-B86B-429B-9EF0-E10644B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9F3C-F7DD-43A9-9392-6D7E700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2784-49FB-4B2F-9080-B7ADD6E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D3B3-207B-42E0-8752-AAB153B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C004-954E-4C2F-A991-7095ED99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F058-5E83-4BA7-9619-54443B5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D2DF-A605-4EF9-A838-AB83FAD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B00B-03EC-4806-B935-BEFDA98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BCC-4AA8-4EB9-9E60-10E915B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264A-0C86-4495-8093-6230776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1747-8BD5-4674-9934-AAB5D53C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0C4B-CAD3-4DDD-9B52-FB01478C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63C6-5381-4E55-B2A5-CF7C8BA7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F295-80D5-49C7-B7B8-3CE10354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36AD-4D86-4E3F-B89B-16CE74E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B328-D443-4C77-A945-D347363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2711-F91A-4AC6-8731-D5BB981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9FB7-9337-4F42-BD9E-7D9CED1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0B30-A46F-495D-8BA1-B0073B9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EBE-49F6-4390-B976-A1082BDC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DD1B-EA1A-424B-9E36-C500D0D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DF37-E462-4FCF-B4AF-ED32C7A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0342-4E58-474B-9C98-1FEF1A3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F8E18-FF03-45A2-9B3A-41FAF7EB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5558-065B-467B-87A5-B6AC855B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8244-8746-4C55-97C3-1AF3D415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206A3-0118-4A30-AD34-D756E1D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32E2-CC32-4DB3-8ED8-2026E081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DABD-47D0-4A1E-8CCE-BC27A07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8151-649E-4837-A81A-8848B99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19D-300A-41DC-97B3-E2566E1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91CE4-A3AF-4B57-9221-96CE69F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F981-8694-4B22-A6A1-2BD5FCE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F936-2719-450F-A676-8B34258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4408-3307-4967-AED3-170BA121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DF84-DAD0-4628-B24A-BB8673A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5B770-B987-404F-A0B2-9EC0534B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DD44-0700-445F-8CCB-540A3594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1419F-36DF-4CAA-98F2-E63C61FD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C9090-D6F8-40E9-B4B8-CC618796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00C3-57FB-4D35-8A3D-B2DCD060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0F9-307E-4B8D-9D5F-4E342142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EAF0-CA85-447C-8880-2EAB98695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3D2-0A71-4827-ADCA-D23640287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A3E0-0E76-4AC2-AA13-A72A50CA0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AD75-2947-40CD-B51A-FDFC029F0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9DC-9CF0-43E9-8202-177D0500E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2E96-B2AF-4662-89FA-B5B8F2A517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9D52-5602-4613-B69C-93A2A3ACE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235-AF59-4504-86F1-959358CB6D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D03-E383-40F7-8706-3F649A835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D5C-36AA-4502-9A1C-E60E58495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51B6-2874-4E99-8D99-CE3966B99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527-C97D-4246-B6BB-4FA74BDD0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7C97-91C4-416A-9577-A6D2F5700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2BB0-D5C6-4319-87BF-EEABC65AA6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A35-77CD-4031-93EB-EBC5B0A9BB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8F7-1B13-4081-BBE6-771862397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4CD-C911-4F04-88CB-A744DB98A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F13-3E17-48CF-96E6-070D584B2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F9A7-3F00-4CE8-8C4A-89E9443A48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0481-738B-4CFE-9A2E-C7212D45B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EBC-94FE-4807-A5DD-C934EE72C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A2E-7EAA-4872-B9F0-378BF8705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84A9-7073-4818-8E51-1B48CADF1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F1D-1FB2-4268-8D50-825C53D321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E3E-98A1-4440-924F-0F7F6016A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14E5-CB59-4AE5-B216-54E583F32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6535-FE85-4CCC-99F2-70EC4CC1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1F6-FE83-47ED-99A9-98F7E26F3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B5C8-EEDF-4D2A-AF7F-7761BFC29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CC01-1FED-45A4-92C0-5F37FDC5E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A0D-9C3F-4286-9F08-DA2A5AA055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E8A-7B8A-4525-AF88-094A04F29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D66-9DE3-4F01-90B0-3FA7924E79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BB58-7443-4F86-ADF7-ECC0B614A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B496-E804-4942-BCEE-0F4ACBCC3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82D-6657-4AC7-B9B5-07FAFCCFD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5343-6A61-4758-90F9-A7EAAFDE4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E0A-AEA6-48C6-8AC5-945163B90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FE2-21A1-435B-BE3F-79CB6C5C5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4760" y="3057480"/>
            <a:ext cx="89344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638280" y="1128600"/>
            <a:ext cx="7867440" cy="460080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1000080" y="1143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1071720" y="1643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1000080" y="2428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"/>
          <p:cNvSpPr/>
          <p:nvPr/>
        </p:nvSpPr>
        <p:spPr>
          <a:xfrm>
            <a:off x="1071720" y="3286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6"/>
          <p:cNvSpPr/>
          <p:nvPr/>
        </p:nvSpPr>
        <p:spPr>
          <a:xfrm>
            <a:off x="1143000" y="3714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"/>
          <p:cNvSpPr/>
          <p:nvPr/>
        </p:nvSpPr>
        <p:spPr>
          <a:xfrm>
            <a:off x="1071720" y="4572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2960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286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5143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267760" cy="48960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1071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38120" y="1990800"/>
            <a:ext cx="8267760" cy="28764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928800" y="2071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92880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61880" y="1057320"/>
            <a:ext cx="8220240" cy="47433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1071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100008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34200" cy="34002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2"/>
          <a:stretch/>
        </p:blipFill>
        <p:spPr>
          <a:xfrm>
            <a:off x="428760" y="4357800"/>
            <a:ext cx="8248680" cy="1857240"/>
          </a:xfrm>
          <a:prstGeom prst="rect">
            <a:avLst/>
          </a:prstGeom>
          <a:ln w="0">
            <a:noFill/>
          </a:ln>
        </p:spPr>
      </p:pic>
      <p:sp>
        <p:nvSpPr>
          <p:cNvPr id="1037" name="矩形 3"/>
          <p:cNvSpPr/>
          <p:nvPr/>
        </p:nvSpPr>
        <p:spPr>
          <a:xfrm>
            <a:off x="3286080" y="1428840"/>
            <a:ext cx="1785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4311720" y="2403360"/>
            <a:ext cx="13572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7286760" y="3357720"/>
            <a:ext cx="12142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"/>
          <p:cNvSpPr/>
          <p:nvPr/>
        </p:nvSpPr>
        <p:spPr>
          <a:xfrm>
            <a:off x="857160" y="38577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7"/>
          <p:cNvSpPr/>
          <p:nvPr/>
        </p:nvSpPr>
        <p:spPr>
          <a:xfrm>
            <a:off x="3857760" y="4357800"/>
            <a:ext cx="164304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"/>
          <p:cNvSpPr/>
          <p:nvPr/>
        </p:nvSpPr>
        <p:spPr>
          <a:xfrm>
            <a:off x="7286760" y="535788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76280" y="757080"/>
            <a:ext cx="8191440" cy="53438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7858080" y="2643120"/>
            <a:ext cx="78588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928800" y="314316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7500960" y="357192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1000080" y="4000680"/>
            <a:ext cx="1071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6"/>
          <p:cNvSpPr/>
          <p:nvPr/>
        </p:nvSpPr>
        <p:spPr>
          <a:xfrm>
            <a:off x="3693960" y="4440240"/>
            <a:ext cx="1785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7"/>
          <p:cNvSpPr/>
          <p:nvPr/>
        </p:nvSpPr>
        <p:spPr>
          <a:xfrm>
            <a:off x="2000160" y="4857840"/>
            <a:ext cx="2857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"/>
          <p:cNvSpPr/>
          <p:nvPr/>
        </p:nvSpPr>
        <p:spPr>
          <a:xfrm>
            <a:off x="4000680" y="5286240"/>
            <a:ext cx="19285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57200" y="714240"/>
            <a:ext cx="8229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14440" y="852480"/>
            <a:ext cx="8115120" cy="51530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1000080" y="3071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928800" y="3857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963720" y="47354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928800" y="5214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